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2CA0-F210-4CE5-8262-80FC18EA0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D40D-1A49-4482-A69C-E5520F0DC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78E-0055-45CA-8ADA-647D31FA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D5D-47F8-48E7-9B45-8BEEB4B5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A8F-45E6-4FE4-8A30-25DB21EF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D72-B2A9-435D-933C-28807DC5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88D-45D9-44D2-89D2-0699E6CD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775-FC53-4493-8E41-528C315E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0FE-AB42-46C7-AAC7-CBAAA0D9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9B5-99B0-4AF0-9251-096CD421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378-34D2-4B2C-B0F7-6E9DAE31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C3C-9C42-4735-84EF-E894FF27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46B-F408-432D-941E-8DE52931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3A2-F497-4472-82F9-1566EDF5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3689-5B17-47BD-BDEE-40CFE5CDD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gela Di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ngela D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gela Die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gela Diep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gela Diep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1814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457200" y="58802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e llamo Angela Die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Yo vivo en New Y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engo catorce añ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No tengo hermanos, pero tengo dos primos en New York, y nuestro apellido somos el mism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Yo soy alta y asiátic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3440"/>
            <a:ext cx="1957680" cy="2060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914400" y="58802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l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43434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soy no pequeño, estupido!  Buenas noches, Tarangela!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Om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56386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días, PJ. Estoy muy perezosa. Tu sombrero es muy lindo! ¿Cuántos sombreros tienes?          Ang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Angela. ¿Cómo estas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P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54864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, tú eres, y tú no lo puedes negar.  Y yo soy no Tarangela! Chao, Omlet.                                           Ang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6248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es la tarea y cuánto tu haces? Yo estoy cansada.  Y recordar Ethan? Él dice él está enfermo.                          To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362320" y="5943600"/>
            <a:ext cx="67816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ías, Angela! Tengo tres sombreros, pero su piel es áspero. Nosotros todos estamos cansados, nuestra tarea es 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scribir un ensayo y estudiar.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9" descr="fb pic 3.png"/>
          <p:cNvPicPr/>
          <p:nvPr/>
        </p:nvPicPr>
        <p:blipFill>
          <a:blip r:embed="rId2"/>
          <a:stretch/>
        </p:blipFill>
        <p:spPr>
          <a:xfrm>
            <a:off x="205740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6" descr="fb pic 1.png"/>
          <p:cNvPicPr/>
          <p:nvPr/>
        </p:nvPicPr>
        <p:blipFill>
          <a:blip r:embed="rId3"/>
          <a:stretch/>
        </p:blipFill>
        <p:spPr>
          <a:xfrm>
            <a:off x="76320" y="533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7" descr="fb pic 2 copy.png"/>
          <p:cNvPicPr/>
          <p:nvPr/>
        </p:nvPicPr>
        <p:blipFill>
          <a:blip r:embed="rId4"/>
          <a:stretch/>
        </p:blipFill>
        <p:spPr>
          <a:xfrm>
            <a:off x="137160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" descr="fb pic 2 copy.png"/>
          <p:cNvPicPr/>
          <p:nvPr/>
        </p:nvPicPr>
        <p:blipFill>
          <a:blip r:embed="rId5"/>
          <a:stretch/>
        </p:blipFill>
        <p:spPr>
          <a:xfrm>
            <a:off x="2057400" y="3733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fb pic 3.png"/>
          <p:cNvPicPr/>
          <p:nvPr/>
        </p:nvPicPr>
        <p:blipFill>
          <a:blip r:embed="rId6"/>
          <a:stretch/>
        </p:blipFill>
        <p:spPr>
          <a:xfrm>
            <a:off x="228600" y="5486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fb pic 4.png"/>
          <p:cNvPicPr/>
          <p:nvPr/>
        </p:nvPicPr>
        <p:blipFill>
          <a:blip r:embed="rId7"/>
          <a:stretch/>
        </p:blipFill>
        <p:spPr>
          <a:xfrm>
            <a:off x="838080" y="5486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2" descr="fb pic 4.png"/>
          <p:cNvPicPr/>
          <p:nvPr/>
        </p:nvPicPr>
        <p:blipFill>
          <a:blip r:embed="rId8"/>
          <a:stretch/>
        </p:blipFill>
        <p:spPr>
          <a:xfrm>
            <a:off x="1981080" y="5105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fb pic 1.png"/>
          <p:cNvPicPr/>
          <p:nvPr/>
        </p:nvPicPr>
        <p:blipFill>
          <a:blip r:embed="rId9"/>
          <a:stretch/>
        </p:blipFill>
        <p:spPr>
          <a:xfrm>
            <a:off x="20574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6" descr="fb pic 1.png"/>
          <p:cNvPicPr/>
          <p:nvPr/>
        </p:nvPicPr>
        <p:blipFill>
          <a:blip r:embed="rId10"/>
          <a:stretch/>
        </p:blipFill>
        <p:spPr>
          <a:xfrm>
            <a:off x="22096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9" descr="fb pic 3.png"/>
          <p:cNvPicPr/>
          <p:nvPr/>
        </p:nvPicPr>
        <p:blipFill>
          <a:blip r:embed="rId11"/>
          <a:stretch/>
        </p:blipFill>
        <p:spPr>
          <a:xfrm>
            <a:off x="1676520" y="594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2:14Z</dcterms:created>
  <dc:creator>FriscoISD</dc:creator>
  <dc:description/>
  <dc:language>en-US</dc:language>
  <cp:lastModifiedBy>NYCDOE</cp:lastModifiedBy>
  <dcterms:modified xsi:type="dcterms:W3CDTF">2012-12-07T14:18:10Z</dcterms:modified>
  <cp:revision>112</cp:revision>
  <dc:subject/>
  <dc:title>Profile</dc:title>
</cp:coreProperties>
</file>